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38EDF-7960-4055-8B49-E64F553B3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38BBF-6F11-4B52-B488-621A4B2D6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125F8-49CD-4F9D-B4A2-FCF43756C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61C22-F855-4398-9245-F9B6D3827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FB506-6735-4E0D-B7FE-8E2A683D0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958B8-02EE-4372-9119-92729985D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6BD70-D690-4D8C-A6C6-A3D10EDD5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DD6F4-5386-417D-A78F-B5EF9A5A8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FBEEB-E0B9-49C2-8E0F-8C90849B3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712BA-0D02-4F9D-A801-069DD0EB9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D671E-4739-4A69-9D71-B439A523D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AC1DA-EE27-4086-9A6D-99EBEB95E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0A60-ED4A-4772-9648-EFCB0C5D5B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chool.discoveryeducation.com/clipart/clip/stk-fgr4.html"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chool.discoveryeducation.com/clipart/clip/ani-cat.html" TargetMode="External"/><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chool.discoveryeducation.com/clipart/clip/moon.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chool.discoveryeducation.com/clipart/clip/stk-fgr4.html" TargetMode="External"/><Relationship Id="rId2" Type="http://schemas.openxmlformats.org/officeDocument/2006/relationships/hyperlink" Target="http://school.discoveryeducation.com/clipart/category/logo0008.htm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72200" y="4952880"/>
            <a:ext cx="25909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ke La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 14</a:t>
            </a:r>
            <a:endParaRPr b="0" lang="en-US" sz="1800" spc="-1" strike="noStrike">
              <a:solidFill>
                <a:srgbClr val="000000"/>
              </a:solidFill>
              <a:latin typeface="Arial"/>
            </a:endParaRPr>
          </a:p>
        </p:txBody>
      </p:sp>
      <p:sp>
        <p:nvSpPr>
          <p:cNvPr id="42" name=""/>
          <p:cNvSpPr txBox="1"/>
          <p:nvPr/>
        </p:nvSpPr>
        <p:spPr>
          <a:xfrm>
            <a:off x="1371600" y="457200"/>
            <a:ext cx="6400800" cy="44197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ffffcc"/>
                    </a:gs>
                    <a:gs pos="100000">
                      <a:srgbClr val="ff9999"/>
                    </a:gs>
                  </a:gsLst>
                  <a:lin ang="5400000"/>
                </a:gradFill>
                <a:latin typeface="Broadway"/>
              </a:rPr>
              <a:t>Shytown</a:t>
            </a:r>
            <a:endParaRPr b="0" i="1" lang="en-US" sz="1800" spc="1" strike="noStrike">
              <a:ln w="9360">
                <a:solidFill>
                  <a:srgbClr val="000000"/>
                </a:solidFill>
                <a:miter/>
              </a:ln>
              <a:gradFill rotWithShape="0">
                <a:gsLst>
                  <a:gs pos="0">
                    <a:srgbClr val="ffffcc"/>
                  </a:gs>
                  <a:gs pos="100000">
                    <a:srgbClr val="ff9999"/>
                  </a:gs>
                </a:gsLst>
                <a:lin ang="5400000"/>
              </a:gradFill>
              <a:latin typeface="Broadway"/>
              <a:ea typeface="Broadway"/>
            </a:endParaRPr>
          </a:p>
        </p:txBody>
      </p:sp>
      <p:sp>
        <p:nvSpPr>
          <p:cNvPr id="43" name=""/>
          <p:cNvSpPr/>
          <p:nvPr/>
        </p:nvSpPr>
        <p:spPr>
          <a:xfrm>
            <a:off x="533520" y="4937040"/>
            <a:ext cx="4114800" cy="192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990720" y="4724280"/>
            <a:ext cx="2514600" cy="192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295280" y="4800600"/>
            <a:ext cx="16002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a:rPr>
              <a:t>Original Story by: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a:rPr>
              <a:t>Mike 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533520"/>
            <a:ext cx="8381880" cy="310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rush Script MT"/>
              </a:rPr>
              <a:t>There </a:t>
            </a:r>
            <a:r>
              <a:rPr b="0" lang="en-US" sz="1800" spc="-1" strike="noStrike">
                <a:solidFill>
                  <a:srgbClr val="000000"/>
                </a:solidFill>
                <a:latin typeface="Broadway"/>
              </a:rPr>
              <a:t>once was a boy named Matthew. He was walking to school on a foggy Monday morning. He wasn’t a big fan of school, like most children. He found a big puddle on the side of the street he was walking on, so he started to cross the street to the other side. He hadn’t checked if cars were coming, though he probably wouldn’t be able to see any with this thick fog. That was too ba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stk-fgr4" descr="stick figure walking">
            <a:hlinkClick r:id="rId1"/>
          </p:cNvPr>
          <p:cNvPicPr/>
          <p:nvPr/>
        </p:nvPicPr>
        <p:blipFill>
          <a:blip r:embed="rId2"/>
          <a:stretch/>
        </p:blipFill>
        <p:spPr>
          <a:xfrm>
            <a:off x="2057400" y="3276720"/>
            <a:ext cx="1587600" cy="190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228600"/>
            <a:ext cx="8229600" cy="64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rush Script MT"/>
              </a:rPr>
              <a:t>A car came roaring</a:t>
            </a:r>
            <a:r>
              <a:rPr b="0" lang="en-US" sz="4000" spc="-1" strike="noStrike">
                <a:solidFill>
                  <a:srgbClr val="000000"/>
                </a:solidFill>
                <a:latin typeface="Brush Script MT"/>
              </a:rPr>
              <a:t> </a:t>
            </a:r>
            <a:r>
              <a:rPr b="0" lang="en-US" sz="1800" spc="-1" strike="noStrike">
                <a:solidFill>
                  <a:srgbClr val="000000"/>
                </a:solidFill>
                <a:latin typeface="Broadway"/>
              </a:rPr>
              <a:t>down the street and poor Matthew was hit. He hadn’t died though, it was much better than that. He was brought to a new magical world nobody had ever seen before. He woke up to a talking cat named Tom.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Who are you? Where am I? Am I dreaming?” Said Matthew.</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No, you are not dreaming. I saw you appear in front of me just like that. I don’t really know how you got here, but welcome. This is Shytow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You mean like Chicago?” Asked Matthew.</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Chi-what? I have never heard of this Chi-ca-go before but if that is where you are from, I would gladly try to get you back ther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ani-cat" descr="bad cat">
            <a:hlinkClick r:id="rId1"/>
          </p:cNvPr>
          <p:cNvPicPr/>
          <p:nvPr/>
        </p:nvPicPr>
        <p:blipFill>
          <a:blip r:embed="rId2"/>
          <a:stretch/>
        </p:blipFill>
        <p:spPr>
          <a:xfrm>
            <a:off x="6248520" y="3200400"/>
            <a:ext cx="1676160" cy="1355760"/>
          </a:xfrm>
          <a:prstGeom prst="rect">
            <a:avLst/>
          </a:prstGeom>
          <a:ln w="0">
            <a:noFill/>
          </a:ln>
        </p:spPr>
      </p:pic>
      <p:pic>
        <p:nvPicPr>
          <p:cNvPr id="50" name="" descr=""/>
          <p:cNvPicPr/>
          <p:nvPr/>
        </p:nvPicPr>
        <p:blipFill>
          <a:blip r:embed="rId3"/>
          <a:stretch/>
        </p:blipFill>
        <p:spPr>
          <a:xfrm>
            <a:off x="4191120" y="19051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0"/>
                    </p:tgtEl>
                  </p:cond>
                </p:stCondLst>
                <p:childTnLst>
                  <p:par>
                    <p:cTn id="3" fill="hold">
                      <p:stCondLst>
                        <p:cond evt="onClick">
                          <p:tgtEl>
                            <p:spTgt spid="50"/>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68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rush Script MT"/>
              </a:rPr>
              <a:t>Tom grabbed Matthew’s</a:t>
            </a:r>
            <a:r>
              <a:rPr b="0" lang="en-US" sz="1800" spc="-1" strike="noStrike">
                <a:solidFill>
                  <a:srgbClr val="000000"/>
                </a:solidFill>
                <a:latin typeface="Broadway"/>
              </a:rPr>
              <a:t> hand and pulled him off of the ground. He handed him a card with “Welcome to Shytown” on it. Matthew thanked him and put it in his pocke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It was getting dark when suddenly the moon flung up into the sky. It was a crescent moon and Matthew thought nothing of it until he looked harder.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The moon had a face and a top hat! Matthew jumped out of his shoes. First a talking cat, now the moon has a face. What nex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Hey kid, what is your name?” said To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Um.. Matthew, you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I’m To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Like from Tom and Jerry?” Asked Matthew</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What are you talking about? Like I was saying my name is Tom Jerryson the 4</a:t>
            </a:r>
            <a:r>
              <a:rPr b="0" lang="en-US" sz="1800" spc="-1" strike="noStrike" baseline="30000">
                <a:solidFill>
                  <a:srgbClr val="000000"/>
                </a:solidFill>
                <a:latin typeface="Broadway"/>
              </a:rPr>
              <a:t>th</a:t>
            </a:r>
            <a:r>
              <a:rPr b="0" lang="en-US" sz="1800" spc="-1" strike="noStrike">
                <a:solidFill>
                  <a:srgbClr val="000000"/>
                </a:solidFill>
                <a:latin typeface="Broadway"/>
              </a:rPr>
              <a:t>. So kid, you eat, right?”</a:t>
            </a:r>
            <a:endParaRPr b="0" lang="en-US" sz="1800" spc="-1" strike="noStrike">
              <a:solidFill>
                <a:srgbClr val="000000"/>
              </a:solidFill>
              <a:latin typeface="Arial"/>
            </a:endParaRPr>
          </a:p>
        </p:txBody>
      </p:sp>
      <p:pic>
        <p:nvPicPr>
          <p:cNvPr id="52" name="moon" descr="moon character">
            <a:hlinkClick r:id="rId1"/>
          </p:cNvPr>
          <p:cNvPicPr/>
          <p:nvPr/>
        </p:nvPicPr>
        <p:blipFill>
          <a:blip r:embed="rId2"/>
          <a:stretch/>
        </p:blipFill>
        <p:spPr>
          <a:xfrm>
            <a:off x="7086600" y="3276720"/>
            <a:ext cx="152388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9144000" cy="602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rush Script MT"/>
              </a:rPr>
              <a:t>Brady’s Restaurant </a:t>
            </a:r>
            <a:r>
              <a:rPr b="0" lang="en-US" sz="1800" spc="-1" strike="noStrike">
                <a:solidFill>
                  <a:srgbClr val="000000"/>
                </a:solidFill>
                <a:latin typeface="Broadway"/>
              </a:rPr>
              <a:t>was the name of the joint Tom took Matthew to.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What kind of food do you like, kid?” Asked To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Well.. I like pizza and chicken and cake.” Answered Matthew.</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Pizza and cake I have never heard of, but chicken! I have friends who are chickens and they wouldn’t like it if you were thinking of eating the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Well in my world, we eat animals like chickens and cows and stuf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Not in this world. We eat vegetables and fruit and dog food, cat food, you know. Oh, and for dessert we eat bug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They entered the restaurant and  sat down at the counter. The waitress was an eagle. She asked the orders and Tom got milk, and a cat food burger. Matthew decided not to e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677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rush Script MT"/>
              </a:rPr>
              <a:t>It was 9;30 </a:t>
            </a:r>
            <a:r>
              <a:rPr b="0" lang="en-US" sz="1800" spc="-1" strike="noStrike">
                <a:solidFill>
                  <a:srgbClr val="000000"/>
                </a:solidFill>
                <a:latin typeface="Broadway"/>
              </a:rPr>
              <a:t>and it was past Matthews bedtime. They were walking on the side of the stree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Do you guys have cars in this world?” Asked Matthew.</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Yeah, we have many cars. Just about everyone has one. Why?” Tom sai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Oh nothing, noth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Four cars came running down the street and it started to ra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Lightning struck. It hit the tree nearest to Matthew and Tom.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The tree had just missed Tom. That was too bad for Matthew thoug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Matthew, where did you go?” Asked To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Matthew had disappeare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txBox="1"/>
          <p:nvPr/>
        </p:nvSpPr>
        <p:spPr>
          <a:xfrm>
            <a:off x="3276720" y="4343400"/>
            <a:ext cx="1295280" cy="72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Broadway"/>
              </a:rPr>
              <a:t>slam</a:t>
            </a:r>
            <a:endParaRPr b="0" lang="en-US" sz="1800" spc="1" strike="noStrike">
              <a:ln w="9360">
                <a:solidFill>
                  <a:srgbClr val="000000"/>
                </a:solidFill>
                <a:miter/>
              </a:ln>
              <a:gradFill rotWithShape="0">
                <a:gsLst>
                  <a:gs pos="0">
                    <a:srgbClr val="ffe701"/>
                  </a:gs>
                  <a:gs pos="100000">
                    <a:srgbClr val="fe3e02"/>
                  </a:gs>
                </a:gsLst>
                <a:lin ang="5400000"/>
              </a:gradFill>
              <a:latin typeface="Broadway"/>
              <a:ea typeface="Broadway"/>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733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rush Script MT"/>
              </a:rPr>
              <a:t>Matthew woke up </a:t>
            </a:r>
            <a:r>
              <a:rPr b="0" lang="en-US" sz="1800" spc="-1" strike="noStrike">
                <a:solidFill>
                  <a:srgbClr val="000000"/>
                </a:solidFill>
                <a:latin typeface="Broadway"/>
              </a:rPr>
              <a:t>in a hospital bed. Next to him was his mother and father. He was back on Earth in Chicag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Matthew, oh Matthew. What happened?” Asked his moth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I was hit by a car. Then I was in a place called Shytow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That must have been a dream” Said his fath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Matthew felt the “Welcome to Shytown” card in his pocke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Yeah, just a dream…….”</a:t>
            </a:r>
            <a:endParaRPr b="0" lang="en-US" sz="1800" spc="-1" strike="noStrike">
              <a:solidFill>
                <a:srgbClr val="000000"/>
              </a:solidFill>
              <a:latin typeface="Arial"/>
            </a:endParaRPr>
          </a:p>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roadway"/>
              </a:rPr>
              <a:t>“</a:t>
            </a:r>
            <a:r>
              <a:rPr b="0" lang="en-US" sz="8000" spc="-1" strike="noStrike">
                <a:solidFill>
                  <a:srgbClr val="000000"/>
                </a:solidFill>
                <a:latin typeface="Broadway"/>
              </a:rPr>
              <a:t>Just a Dream”</a:t>
            </a:r>
            <a:endParaRPr b="0" lang="en-US" sz="8000" spc="-1" strike="noStrike">
              <a:solidFill>
                <a:srgbClr val="000000"/>
              </a:solidFill>
              <a:latin typeface="Arial"/>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Brush Script MT"/>
              </a:rPr>
              <a:t>Fin</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roadway"/>
              </a:rPr>
              <a:t>Bibliography</a:t>
            </a:r>
            <a:r>
              <a:rPr b="0" lang="en-US" sz="3200" spc="-1" strike="noStrike">
                <a:solidFill>
                  <a:srgbClr val="000000"/>
                </a:solidFill>
                <a:latin typeface="Broadway"/>
              </a:rPr>
              <a:t> </a:t>
            </a:r>
            <a:endParaRPr b="0" lang="en-US" sz="3200" spc="-1" strike="noStrike">
              <a:solidFill>
                <a:srgbClr val="000000"/>
              </a:solidFill>
              <a:latin typeface="Arial"/>
            </a:endParaRPr>
          </a:p>
        </p:txBody>
      </p:sp>
      <p:sp>
        <p:nvSpPr>
          <p:cNvPr id="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Discovery Education, </a:t>
            </a:r>
            <a:r>
              <a:rPr b="0" lang="en-US" sz="2000" spc="-1" strike="noStrike" u="sng">
                <a:solidFill>
                  <a:srgbClr val="009999"/>
                </a:solidFill>
                <a:uFillTx/>
                <a:latin typeface="Snap ITC"/>
                <a:hlinkClick r:id="rId1"/>
              </a:rPr>
              <a:t>stick figure walking</a:t>
            </a:r>
            <a:r>
              <a:rPr b="0" lang="en-US" sz="2000" spc="-1" strike="noStrike" u="sng">
                <a:solidFill>
                  <a:srgbClr val="000000"/>
                </a:solidFill>
                <a:uFillTx/>
                <a:latin typeface="Snap ITC"/>
              </a:rPr>
              <a:t>, March 4,2010</a:t>
            </a:r>
            <a:r>
              <a:rPr b="0" lang="en-US" sz="2000" spc="-1" strike="noStrike" u="sng">
                <a:solidFill>
                  <a:srgbClr val="009999"/>
                </a:solidFill>
                <a:uFillTx/>
                <a:latin typeface="Snap ITC"/>
                <a:hlinkClick r:id="rId2"/>
              </a:rPr>
              <a:t>http://school.discoveryeducation.com/clipart/category/logo0008.html</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Discovery Education, bad cat, March 4, 2010http://school.discoveryeducation.com/clipart/category/anim0001.html</a:t>
            </a:r>
            <a:endParaRPr b="0" lang="en-US" sz="2000" spc="-1" strike="noStrike">
              <a:solidFill>
                <a:srgbClr val="000000"/>
              </a:solidFill>
              <a:latin typeface="Arial"/>
            </a:endParaRPr>
          </a:p>
          <a:p>
            <a:pPr marL="343080" indent="-343080">
              <a:lnSpc>
                <a:spcPct val="100000"/>
              </a:lnSpc>
              <a:spcBef>
                <a:spcPts val="799"/>
              </a:spcBef>
              <a:buClr>
                <a:srgbClr val="000000"/>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 </a:t>
            </a:r>
            <a:r>
              <a:rPr b="0" lang="en-US" sz="2000" spc="-1" strike="noStrike">
                <a:solidFill>
                  <a:srgbClr val="000000"/>
                </a:solidFill>
                <a:latin typeface="Snap ITC"/>
              </a:rPr>
              <a:t>Discovery Education, moon character, March 4, 2010http://school.discoveryeducation.com/clipart/category/logo0005.html</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15:55:49Z</dcterms:created>
  <dc:creator>install</dc:creator>
  <dc:description/>
  <dc:language>en-US</dc:language>
  <cp:lastModifiedBy>install</cp:lastModifiedBy>
  <dcterms:modified xsi:type="dcterms:W3CDTF">2010-03-29T15:05:15Z</dcterms:modified>
  <cp:revision>16</cp:revision>
  <dc:subject/>
  <dc:title>Slide 1</dc:title>
</cp:coreProperties>
</file>